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4B95-18BD-4746-9772-F49D2DFA41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БизнесКонсалт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  Козлов Алексей Викто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:   Эксперт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, внедрение и поддержку своих проду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веряет крупным компаниям-партнерам, лидерам в области информационных технологий. Партнер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ят обучение сотрудников и сертификацию, предоставляя лучших специалистов для помощи свои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а компания РосБизнесКонсалтин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сБизнесКонсалтинг» (РБК) - крупнейший в России холдинг, специализирующийся на создании различных информационных систем и программных комплексов; поставках компьютерного и телекоммуникационного оборудования;  автоматизации управления  предприятиями; а также распространению  финансовой, экономической и бизнес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1992 г. наша компания оказывает комплексные услуги по системной интеграции, автоматизации, информационной безопасности, поставке и наладке компьютерного и телекоммуникационного оборудования, разработке и внедрению ERP и CRM систем, обучению персонала заказчика, техническому сопровождению. На сегодняшний день компания насчитывает более 500 челов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ссийского рынка первой стала верс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реднего бизнеса. (не более 200 рабочих мест, не более 250 млн. $ годовой 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несколько групп приложений ориентированных на различные группы пользов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чных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ustom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создать интегрированный интернет-магазин ил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у без использования программного обеспечения третьи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ртнеров и дилерскую с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трудников вашей комп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Call Cent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ales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ervic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для работы с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-mail Respons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, самыми мощными приложениями конечно являются традиционны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ложения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название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ператорское приложение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диняет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я универсальное приложение для сотрудников ваше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просов на информацию или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, «труба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яемый календарь и список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crosoft Outlook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m Pi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рреспонденцией (рассылка информац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лным циклом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предоставить лучший сервис и повышает лояльность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 эффективность торговых представителей, телемаркетинга и серви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менеджерам продавать дополнительны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мимо функциональности доступной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следующие дополнительн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ое распределение потенциальных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продаж, анализ «трубы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составление предложений /оценка стоимости заказа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сложных составных товаров и сложное цен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 и сопутствующе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активности конкур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редставительских рас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изируемые органайзеры с календарем и списком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 и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ориентировано на сотрудников сервисного отдела, отдела обслуживания клиентов (уже после заключения контракта или продажи), сотрудников горячей ли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входящих запросов, отслеживание всего цикла запроса на сервисное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и автоматический учет жалоб на качество проду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о-телефонн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ходящей почтой, интеграция с контакт-ли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 оператору для телефонного разговора и решения проблемы с первого 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 заказов на дополнитель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ая библиотека для решения пробл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ое направление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для поиска и сравнения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ка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теграции с платежными 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ая интеграция с остальными решениям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диный центр обслуживания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 для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оценка стоимости проекта (пакета услу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библиотека литературы, маркетинговых матери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исно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дилерской сетью, ведение совместного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вам и вашим партнерам быстро перенаправлять потенциальных клиентов, запросы на обслуживание, бизнес контакты, и т.д., если по каким то причинам они не могут быть обслужены самостоятельно. Это значительно упрощает управление дилерской сетью, повышает скорость реакции и эффективность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анные надежно защищ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ывной рост Интернет поставил компании перед фактом, что существует новый канал продаж – Интернет. Новые технологии, связанные с Интернет так же предоставляют крайне эффективные способы персонального рекламного контакта и взаимодействия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сожалению большинство компаний не обладают практикой и технологиями для перенесения их обычных рекламных кампаний в Интер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модуль позволяющий проводить применять прямой, дозируем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ркетинг и персонифицированную рекламу на вашем интернет сайте.  Он так же позволяет компаниям собирать информацию о поведении пользователей на интернет сайте в реальном времени, благодаря анализу переходов. Это приносит не только дополнительный доход, но и большее удовлетворение клиентов – они больше не подвергаются массированным рекламным компаниям, а вместо этого получают индивидуальные пред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mpai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направлять персональные сообщения выбранному сегменту ваших потенциальных клиентов. Одновременно создаются специальные страницы 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урсе с детальной информацией по рекламному предложению. Заинтересовавшиеся покупатели могут сразу же осуществить покупку или запросить дополнительную информацию. Сотрудники маркетинга могут анализировать рекламные компании по нескольким показателям, таким ка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еографический признак, популярность продуктов, время отклика, поведение покупателя в интернет-магази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ет возможность эффективно управлять вашей перепиской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держит автоответчик на письма, для того, чтобы быстрее сообщить клиенту о том, что его запрос обрабаты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 является удобным интегрированным средством, которое решает постоянный вопрос – кто этот человек, который написал письмо. Больше нет необходимости в ручную искать информацию о нем и копировать ее и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а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вета на письма используются можно использовать шаблоны, которые значительно повысят скорость раб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ответчик на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 шабло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с книгой конта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при прочтении письма сразу создавать задания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идеология работы компании, при которой внимательное, персональное отношение к клиентам становится важнейшей задачей, позволяющей удержать клиентов и завоевать их лояльность. Такой подход позволяет компании повысить свою прибыльность, эффективно организовать процесс взаимодействия с клиентами и при этом снизить издерж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явился, при объединении в единое целое уже довольно давно используемых приложений и подходов для организации деятельности «внешних» отделов компании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отдела продаж и сервиса соответственно. Позже в общую информационную среду были добавлены приложения для маркетин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особые возможности по автоматизации бизнес процессов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обор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flo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распределение зада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бизнес процессов позволяет организациям заложить в систему бизнес правила и с помощь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ролировать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х исполнения. Система может контролировать наличие определенных шагов в процессе обслуживания клиентов, требовать утверждения документов вышестоящими менеджерами, генерировать события, задания, электронную почту, запросы и т.д. в соответствии с какой-то ситуацией или собы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функции контроля: система может брать на себя простейшие функции, как напоминание связаться с клиентом по прошествии 1 недели после запроса брошюр с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ожет отправля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уководителю, если сотрудник не справляется с работой и не выдерживает сро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ческое распределение потенциальных клиентов среди менеджеров, согласно начальным признакам и заложенным правилам. Регулирование доступа к информации, в зависимости от ее важ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работает на нескольких платфор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через бауз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уровневая архитектура СУБД-Сервер приложений-Кли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оследующей синхро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интегрированную графическую среду конфигур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объектную модель, ускоряющую и упрощающую конфигур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ируем 1 раз – распространяем на все платформы. Единый вид и пове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– один из ключевых моментов, позволивш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два года завоевать более 50% рынка компаний среднего разме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пециалист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ходили из следующих установо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м нужен готовый продукт, максимально удовлетворяющий их потребности, а не инструмент для самостоятельной разраб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одукт должен объединять все каналы, чтобы не приходилось лишний раз интегрировать решения различных производ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ешение должно быстро внедряться и быть простым в обслужив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е должно поддерживать сложную функциональность, и быть очень гибким, потому что компании многогран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пред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упрощения внедр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уже готова типовая конфигу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дополнительных шаблонов и объектов, не использующихся в типовой конфигурации, но готовых к быстрому включению в при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ный графический конфигур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нескольких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дистрибуции конечных приложений: конфигурируем 1 раз, распространяем вез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ктике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случаи завершения проекта в течение 2х недель, когда заказчика на 95% удовлетворяет стандартная функциональ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срок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оставляет 4-5неде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ункциональности приложений возможно в процессе работы, силами консультантов или собственны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Tool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нутренний конфигуратор выполнен в сти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внутренний язы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V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назначенный для выполнения сложных задач конфигурирования схож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распространенного мн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является чрезмерно дорогим продуктом, доступным только крупным компа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рабочего мес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еблется в пределах 1000-140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и по внедрению зависят от объема работ. Однако я уже говорил –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 сделано для сокращения сроков и стоимости внедрения, а дальнейшую поддержку приложения, после обучения, можно доверить собствен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жб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ие функциональные возможности, покрывающие нужды практически любо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, позволяющая конфигурировать стандартный продукт для лучшего удовлетворения специфических требов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компонентность, позволяющая покупать только необходимую функциона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использовать разные платформы – от персонального компьютера, до карманного ПК или тонк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иента. Уникальная технология синхронизации мобильных у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зволяющая решить многие задачи без конфигурирования и сократить сроки внедрения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е возможности интеграции. Пакетный и он-лайн режим обмена данными. Готовые процедуры для интеграции 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dward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, CORBA, ACTIVEX, MQSE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егодняшнем уровне технологий и высокой конкуренции, качество товаров различных производителей отличается незначительно. Товар более не может быть инструментом завоевания лояльности клиента, не может заставить его постоянно выбирать один и тот же товар, услугу. Таким инструментом может стать внимательное отношение к клиен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 массового продукта, массового обслуживания и супермаркетов вывел из бизнеса персональное обслуживание, присутствовавшее в маленьких фирмах, где хозяин знал всех своих клиентов. Только с приходом современных компьютерных технологий и мощных баз данных вновь появилась возможность выделить клиента из общей массы и понять его интере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компании уже достигли пределов минимизации издержек и качества за счет внедрения ERP-систем и, в поисках новых способов повышения конкурентоспособности, обратили внимание на C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утверждения, позволяющие понять бурный интерес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учат следующим образом (согласно исследова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компаний из списка Fortune 500 теряет 50% своих клиентов каждые 5 лет. В результате компании тратят значительно больше средств на увеличение клиентской ба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привлечение нового клиента обходится компании от 7 до 10 раз дороже, чем удержание существующ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процента удержания клиентов на 5% увеличивает прибыль от 25 до 12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50% существующих клиентов компании не прибыльны из-за неэффективного взаимодействия с ними. Слишком много затрачено средств на их привлечение, и при этом маржа на современном высококонкурентном рынке слишком мала, чтобы покрыть эти затраты с одной продаж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 гораздо больше внимания уделят попытке привлечь новых клиентов, нежели предложить дополнительные услуги своим старым, возможно лояльны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ется сомнений, что клиентская база – важнейший актив компании, которым надо эффективно управлять. "Выращивание" клиента рассматривается как необходимое условие успешной работы как с текущим, так и с перспективным клиентом. Интересно отметить, что цена является далеко не решающим фактором в воспитании лояльности и при совершении повторных покуп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е выгоды для компании приносит лояльность клиент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менее восприимчивы к це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более склонны покупать дополнительные продукты 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ются затраты на рекламу и привлечение. Увеличивается процент удержания и повторных обращений кли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т доля лояльных клиентов, которые делятся хорошими впечатлениями с другими. Снижается негативное влияние недовольных клиентов, улучшается общий имидж компа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тметить, что проблемы, которые решаются при помощи систем CRM существуют только на тех рынках, где компании приходится работать с большим количеством клиентов, причем работа с клиентом носит долгосрочный характер и предполагает многократную продажу продуктов/услуг. Именно поэтому "целевыми" рынками для CRM ста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но, что реализация страте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трывна от внедрения соответствующих технологий и программного обеспечения. Программное обеспеч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назначено для автоматизации «внешних» подразделений компании, которые контактируют с заказчиком. Помимо накопления и предоставления единой информации,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олняет ряд других важных функ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работу различных департаментов связанных с обслуживанием клиента, а так же различных офисов и представительств в территориально распределенной орг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информационный обмен по трем каналам – личное общение, телефон 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способ автоматизации деятельности подразделений сервиса, продаж и маркетин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и словами, продукты CRM позволяют автоматизировать работу фронт офиса (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 офис – это отделы компании, непосредственно работающие с клиентом: продажи, маркетинг и серви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Именно поэтому продукты CRM всех фирм содержат соответствующие модули: продажи, маркетинг и серв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ая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основана в 1993г. и начала свою работу на рынке фронт-офисных приложений. На сегодняшний день в компании работает бол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сотрудников а оборот компании составляет более 1.6 млрд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од. Компания имеет 120 офисов в 28 странах ми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и приложениями, которые выпустила компания, стали системы автоматизации продаж и сервиса. Объединение этих двух систем привело к созданию в 1995 году перв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97 году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добавлена функциональность для маркетинга и использования Интернет. Это привело к появлению современ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дук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агает три версии своего продукта – для персонального использования, для средних рынков с количеством рабочих мест до 200, и уровня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секторе, являющемся наиболее перспективным, компания завоевала 53% ры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683A4-5516-4847-A78E-FE75DCB02E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30FB6-7850-4195-80C4-FB13D6919D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000F0-B84F-46EF-B097-5EEAD4A357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94BF3-3665-4162-9587-D7C9004430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237C6-DA71-4F47-B0FC-7C2CAE542D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52235-EC89-46B0-B73F-768D4423A2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E0FAA-1DE0-488D-AC42-F1CB86F375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DABEA-5FB7-4FE3-AD45-18BB96A2D2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712BB-020E-4906-9400-E3567C339A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C8467-EB86-454E-BB83-29062F418F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3B6D3-FE60-44B1-997D-6C9C4B53B4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DE1C5-388D-4E89-8117-37C94DF734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592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C2D4-07A4-42A8-BA47-9B74695E0948}" type="slidenum">
              <a:rPr b="1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 R M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Business Solutio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ир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жа и внедрение осуществляется партнер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тнер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т обученных, сертифицированных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компании-лидеры 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-индус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не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БК – крупнейший холдинг в России, работающий в сфере И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нформацион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idMarket E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bel e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сколько групп прилож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ля клиентов и конечных покуп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ля партнеров и дилерск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ля сотрудников Вашей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Call Cen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al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Для рабо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ampaign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i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Call Cent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альное рабоче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спонд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ация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Out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лным циклом прод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оставление лучшего сервиса и повышение лояльности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еличение эффективности сотруд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ажа дополнитель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JG%20Pipeline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6712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ales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я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кл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акты и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из конкур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ельские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четы и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прибыли за счет лучшего управления продаж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оставление информации для принятия ре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JG%20Acct%20TAS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ervic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за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кл 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рекла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 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проблем по теле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 большинства вопросов при первом зво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увеличить количество предоставляем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быстро выявлять деф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JG%20SR%20Aging" descr=""/>
          <p:cNvPicPr/>
          <p:nvPr/>
        </p:nvPicPr>
        <p:blipFill>
          <a:blip r:embed="rId3"/>
          <a:stretch/>
        </p:blipFill>
        <p:spPr>
          <a:xfrm>
            <a:off x="4648320" y="1376280"/>
            <a:ext cx="38304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ustom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комм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и сравнение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зак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еж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ый канал продаж и информирования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интеграция с другими приложениям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rcRect l="1798" t="10728" r="19765" b="8022"/>
          <a:stretch/>
        </p:blipFill>
        <p:spPr>
          <a:xfrm>
            <a:off x="4648320" y="1390680"/>
            <a:ext cx="3824280" cy="3095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hannel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грация с партн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кли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а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ает управление сетью партнеров или дил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ет оперативность работы с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решение проблемы часовых поя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ведения совместного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echannel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098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ampa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 в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директ-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интерес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воляет использовать новые технологии в маркетин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сонифицирует воз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ет возможность дополнительного анализа интересов и сегментации аудитории для будущих камп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004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16360" cy="284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Mail Respons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и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оен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ие уведом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ы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а контак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ц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ый ответ клиен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ция с контакт лис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JG%20eMail" descr=""/>
          <p:cNvPicPr/>
          <p:nvPr/>
        </p:nvPicPr>
        <p:blipFill>
          <a:blip r:embed="rId3"/>
          <a:stretch/>
        </p:blipFill>
        <p:spPr>
          <a:xfrm>
            <a:off x="4648320" y="1357200"/>
            <a:ext cx="3852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Relationship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взаимоотношениями с кли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направленная на завоевание лояльности клиентов путем персонального подхода и качественн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понятие, объединившее старые, проверенные методы и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матизация бизнес-процесс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ооборот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ированный контроль исполнения бизнес-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ация рутинных 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грузка управляющего 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85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48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хро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совместимо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латформ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84840" y="19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6249960" y="2671920"/>
            <a:ext cx="1865520" cy="631800"/>
            <a:chOff x="6249960" y="2671920"/>
            <a:chExt cx="1865520" cy="631800"/>
          </a:xfrm>
        </p:grpSpPr>
        <p:sp>
          <p:nvSpPr>
            <p:cNvPr id="145" name=""/>
            <p:cNvSpPr/>
            <p:nvPr/>
          </p:nvSpPr>
          <p:spPr>
            <a:xfrm>
              <a:off x="6249960" y="2671920"/>
              <a:ext cx="1865520" cy="63180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7360" y="2896920"/>
              <a:ext cx="1019160" cy="34524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51680" y="2880720"/>
              <a:ext cx="1019160" cy="34488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2480" y="311400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0440" y="314964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97840" y="3164400"/>
              <a:ext cx="57564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0840" y="3089880"/>
              <a:ext cx="57600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1600" y="3125880"/>
              <a:ext cx="272160" cy="763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91160" y="3017520"/>
              <a:ext cx="28836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17600" y="302940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07960" y="3000240"/>
              <a:ext cx="288360" cy="1281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960" bIns="39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24760" y="303012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10440" y="2920680"/>
              <a:ext cx="432720" cy="824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7920" bIns="7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41560" y="276120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30560" y="2876400"/>
              <a:ext cx="383040" cy="720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60" bIns="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87360" y="285084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3160" y="2791080"/>
              <a:ext cx="408600" cy="874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1520" bIns="11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27640" y="2587680"/>
            <a:ext cx="1905120" cy="646200"/>
          </a:xfrm>
          <a:custGeom>
            <a:avLst/>
            <a:gdLst/>
            <a:ahLst/>
            <a:rect l="l" t="t" r="r" b="b"/>
            <a:pathLst>
              <a:path w="6732" h="4355">
                <a:moveTo>
                  <a:pt x="666" y="1132"/>
                </a:moveTo>
                <a:lnTo>
                  <a:pt x="438" y="1219"/>
                </a:lnTo>
                <a:lnTo>
                  <a:pt x="253" y="1365"/>
                </a:lnTo>
                <a:lnTo>
                  <a:pt x="117" y="1553"/>
                </a:lnTo>
                <a:lnTo>
                  <a:pt x="30" y="1771"/>
                </a:lnTo>
                <a:lnTo>
                  <a:pt x="0" y="2003"/>
                </a:lnTo>
                <a:lnTo>
                  <a:pt x="0" y="2060"/>
                </a:lnTo>
                <a:lnTo>
                  <a:pt x="3" y="2120"/>
                </a:lnTo>
                <a:lnTo>
                  <a:pt x="25" y="2240"/>
                </a:lnTo>
                <a:lnTo>
                  <a:pt x="111" y="2465"/>
                </a:lnTo>
                <a:lnTo>
                  <a:pt x="264" y="2669"/>
                </a:lnTo>
                <a:lnTo>
                  <a:pt x="187" y="2977"/>
                </a:lnTo>
                <a:lnTo>
                  <a:pt x="184" y="3049"/>
                </a:lnTo>
                <a:lnTo>
                  <a:pt x="188" y="3123"/>
                </a:lnTo>
                <a:lnTo>
                  <a:pt x="216" y="3264"/>
                </a:lnTo>
                <a:lnTo>
                  <a:pt x="334" y="3512"/>
                </a:lnTo>
                <a:lnTo>
                  <a:pt x="522" y="3710"/>
                </a:lnTo>
                <a:lnTo>
                  <a:pt x="756" y="3837"/>
                </a:lnTo>
                <a:lnTo>
                  <a:pt x="884" y="3870"/>
                </a:lnTo>
                <a:lnTo>
                  <a:pt x="951" y="3879"/>
                </a:lnTo>
                <a:lnTo>
                  <a:pt x="1019" y="3882"/>
                </a:lnTo>
                <a:lnTo>
                  <a:pt x="1289" y="3826"/>
                </a:lnTo>
                <a:lnTo>
                  <a:pt x="1548" y="3652"/>
                </a:lnTo>
                <a:lnTo>
                  <a:pt x="1729" y="3803"/>
                </a:lnTo>
                <a:lnTo>
                  <a:pt x="1927" y="3924"/>
                </a:lnTo>
                <a:lnTo>
                  <a:pt x="2137" y="4011"/>
                </a:lnTo>
                <a:lnTo>
                  <a:pt x="2359" y="4065"/>
                </a:lnTo>
                <a:lnTo>
                  <a:pt x="2582" y="4082"/>
                </a:lnTo>
                <a:lnTo>
                  <a:pt x="2694" y="4080"/>
                </a:lnTo>
                <a:lnTo>
                  <a:pt x="2810" y="4067"/>
                </a:lnTo>
                <a:lnTo>
                  <a:pt x="3033" y="4015"/>
                </a:lnTo>
                <a:lnTo>
                  <a:pt x="3252" y="3923"/>
                </a:lnTo>
                <a:lnTo>
                  <a:pt x="3532" y="4126"/>
                </a:lnTo>
                <a:lnTo>
                  <a:pt x="3837" y="4265"/>
                </a:lnTo>
                <a:lnTo>
                  <a:pt x="4157" y="4339"/>
                </a:lnTo>
                <a:lnTo>
                  <a:pt x="4320" y="4354"/>
                </a:lnTo>
                <a:lnTo>
                  <a:pt x="4403" y="4355"/>
                </a:lnTo>
                <a:lnTo>
                  <a:pt x="4485" y="4351"/>
                </a:lnTo>
                <a:lnTo>
                  <a:pt x="4809" y="4300"/>
                </a:lnTo>
                <a:lnTo>
                  <a:pt x="5121" y="4186"/>
                </a:lnTo>
                <a:lnTo>
                  <a:pt x="5412" y="4010"/>
                </a:lnTo>
                <a:lnTo>
                  <a:pt x="5673" y="3774"/>
                </a:lnTo>
                <a:lnTo>
                  <a:pt x="5842" y="3794"/>
                </a:lnTo>
                <a:lnTo>
                  <a:pt x="5922" y="3794"/>
                </a:lnTo>
                <a:lnTo>
                  <a:pt x="6002" y="3784"/>
                </a:lnTo>
                <a:lnTo>
                  <a:pt x="6283" y="3681"/>
                </a:lnTo>
                <a:lnTo>
                  <a:pt x="6505" y="3489"/>
                </a:lnTo>
                <a:lnTo>
                  <a:pt x="6658" y="3232"/>
                </a:lnTo>
                <a:lnTo>
                  <a:pt x="6728" y="2942"/>
                </a:lnTo>
                <a:lnTo>
                  <a:pt x="6732" y="2867"/>
                </a:lnTo>
                <a:lnTo>
                  <a:pt x="6732" y="2791"/>
                </a:lnTo>
                <a:lnTo>
                  <a:pt x="6709" y="2639"/>
                </a:lnTo>
                <a:lnTo>
                  <a:pt x="6589" y="2352"/>
                </a:lnTo>
                <a:lnTo>
                  <a:pt x="6486" y="2222"/>
                </a:lnTo>
                <a:lnTo>
                  <a:pt x="6353" y="2104"/>
                </a:lnTo>
                <a:lnTo>
                  <a:pt x="6490" y="1937"/>
                </a:lnTo>
                <a:lnTo>
                  <a:pt x="6552" y="1749"/>
                </a:lnTo>
                <a:lnTo>
                  <a:pt x="6557" y="1655"/>
                </a:lnTo>
                <a:lnTo>
                  <a:pt x="6546" y="1559"/>
                </a:lnTo>
                <a:lnTo>
                  <a:pt x="6480" y="1382"/>
                </a:lnTo>
                <a:lnTo>
                  <a:pt x="6366" y="1237"/>
                </a:lnTo>
                <a:lnTo>
                  <a:pt x="6210" y="1136"/>
                </a:lnTo>
                <a:lnTo>
                  <a:pt x="6024" y="1100"/>
                </a:lnTo>
                <a:lnTo>
                  <a:pt x="5975" y="1101"/>
                </a:lnTo>
                <a:lnTo>
                  <a:pt x="5922" y="1108"/>
                </a:lnTo>
                <a:lnTo>
                  <a:pt x="5814" y="1141"/>
                </a:lnTo>
                <a:lnTo>
                  <a:pt x="5664" y="970"/>
                </a:lnTo>
                <a:lnTo>
                  <a:pt x="5491" y="829"/>
                </a:lnTo>
                <a:lnTo>
                  <a:pt x="5303" y="721"/>
                </a:lnTo>
                <a:lnTo>
                  <a:pt x="5099" y="645"/>
                </a:lnTo>
                <a:lnTo>
                  <a:pt x="4888" y="605"/>
                </a:lnTo>
                <a:lnTo>
                  <a:pt x="4780" y="598"/>
                </a:lnTo>
                <a:lnTo>
                  <a:pt x="4728" y="596"/>
                </a:lnTo>
                <a:lnTo>
                  <a:pt x="4672" y="598"/>
                </a:lnTo>
                <a:lnTo>
                  <a:pt x="4455" y="627"/>
                </a:lnTo>
                <a:lnTo>
                  <a:pt x="4239" y="697"/>
                </a:lnTo>
                <a:lnTo>
                  <a:pt x="4045" y="393"/>
                </a:lnTo>
                <a:lnTo>
                  <a:pt x="3789" y="175"/>
                </a:lnTo>
                <a:lnTo>
                  <a:pt x="3495" y="44"/>
                </a:lnTo>
                <a:lnTo>
                  <a:pt x="3177" y="0"/>
                </a:lnTo>
                <a:lnTo>
                  <a:pt x="3099" y="1"/>
                </a:lnTo>
                <a:lnTo>
                  <a:pt x="3020" y="8"/>
                </a:lnTo>
                <a:lnTo>
                  <a:pt x="2863" y="42"/>
                </a:lnTo>
                <a:lnTo>
                  <a:pt x="2567" y="173"/>
                </a:lnTo>
                <a:lnTo>
                  <a:pt x="2311" y="389"/>
                </a:lnTo>
                <a:lnTo>
                  <a:pt x="2113" y="697"/>
                </a:lnTo>
                <a:lnTo>
                  <a:pt x="1932" y="512"/>
                </a:lnTo>
                <a:lnTo>
                  <a:pt x="1717" y="403"/>
                </a:lnTo>
                <a:lnTo>
                  <a:pt x="1488" y="368"/>
                </a:lnTo>
                <a:lnTo>
                  <a:pt x="1432" y="370"/>
                </a:lnTo>
                <a:lnTo>
                  <a:pt x="1374" y="377"/>
                </a:lnTo>
                <a:lnTo>
                  <a:pt x="1259" y="403"/>
                </a:lnTo>
                <a:lnTo>
                  <a:pt x="1048" y="500"/>
                </a:lnTo>
                <a:lnTo>
                  <a:pt x="869" y="659"/>
                </a:lnTo>
                <a:lnTo>
                  <a:pt x="741" y="870"/>
                </a:lnTo>
                <a:lnTo>
                  <a:pt x="677" y="1132"/>
                </a:lnTo>
                <a:lnTo>
                  <a:pt x="666" y="1132"/>
                </a:lnTo>
                <a:close/>
              </a:path>
            </a:pathLst>
          </a:custGeom>
          <a:gradFill rotWithShape="0">
            <a:gsLst>
              <a:gs pos="0">
                <a:srgbClr val="f0f0f0"/>
              </a:gs>
              <a:gs pos="100000">
                <a:srgbClr val="b2b2b2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715000"/>
            <a:ext cx="1009800" cy="763560"/>
          </a:xfrm>
          <a:prstGeom prst="can">
            <a:avLst>
              <a:gd name="adj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server" descr=""/>
          <p:cNvPicPr/>
          <p:nvPr/>
        </p:nvPicPr>
        <p:blipFill>
          <a:blip r:embed="rId3"/>
          <a:stretch/>
        </p:blipFill>
        <p:spPr>
          <a:xfrm>
            <a:off x="5506920" y="4076640"/>
            <a:ext cx="1675080" cy="1082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5029200" y="5181480"/>
            <a:ext cx="129528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23040" y="4189680"/>
            <a:ext cx="1417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Менеджер объектов 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213080"/>
            <a:ext cx="1027080" cy="1013040"/>
          </a:xfrm>
          <a:prstGeom prst="wedgeRectCallout">
            <a:avLst>
              <a:gd name="adj1" fmla="val -5949"/>
              <a:gd name="adj2" fmla="val 91064"/>
            </a:avLst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игу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2280" y="4687920"/>
            <a:ext cx="318960" cy="14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971800" y="4723920"/>
            <a:ext cx="91440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81880" y="3651120"/>
            <a:ext cx="1123920" cy="28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1400" y="3635280"/>
            <a:ext cx="1305360" cy="27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Siebel Web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81880" y="3498840"/>
            <a:ext cx="1123920" cy="193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9320" y="3481560"/>
            <a:ext cx="87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37480" y="3809520"/>
            <a:ext cx="630000" cy="2588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0"/>
            <a:ext cx="252360" cy="2682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13440" y="3306600"/>
            <a:ext cx="478080" cy="3510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438280" y="5029200"/>
            <a:ext cx="1218960" cy="979560"/>
            <a:chOff x="2438280" y="5029200"/>
            <a:chExt cx="1218960" cy="979560"/>
          </a:xfrm>
        </p:grpSpPr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2438280" y="5029200"/>
              <a:ext cx="1218960" cy="9795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9" name=""/>
            <p:cNvSpPr/>
            <p:nvPr/>
          </p:nvSpPr>
          <p:spPr>
            <a:xfrm>
              <a:off x="2910600" y="5516640"/>
              <a:ext cx="634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Sieb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445520" y="4724280"/>
            <a:ext cx="1153800" cy="74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2960" y="2806560"/>
            <a:ext cx="1657800" cy="2844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р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3276720"/>
            <a:ext cx="1440" cy="77472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619760" y="2286000"/>
            <a:ext cx="268200" cy="25236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22600" y="2587680"/>
            <a:ext cx="53820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362320"/>
            <a:ext cx="436680" cy="17064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133720"/>
            <a:ext cx="55440" cy="38088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09880" y="990720"/>
            <a:ext cx="1295280" cy="1082160"/>
            <a:chOff x="3809880" y="990720"/>
            <a:chExt cx="1295280" cy="1082160"/>
          </a:xfrm>
        </p:grpSpPr>
        <p:sp>
          <p:nvSpPr>
            <p:cNvPr id="188" name=""/>
            <p:cNvSpPr/>
            <p:nvPr/>
          </p:nvSpPr>
          <p:spPr>
            <a:xfrm>
              <a:off x="3809880" y="990720"/>
              <a:ext cx="1295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рт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lap3" descr=""/>
            <p:cNvPicPr/>
            <p:nvPr/>
          </p:nvPicPr>
          <p:blipFill>
            <a:blip r:embed="rId5"/>
            <a:stretch/>
          </p:blipFill>
          <p:spPr>
            <a:xfrm>
              <a:off x="4057560" y="1315800"/>
              <a:ext cx="96192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4325760" y="1434960"/>
              <a:ext cx="430200" cy="32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5137200" y="990720"/>
            <a:ext cx="1039680" cy="1288800"/>
            <a:chOff x="5137200" y="990720"/>
            <a:chExt cx="1039680" cy="1288800"/>
          </a:xfrm>
        </p:grpSpPr>
        <p:pic>
          <p:nvPicPr>
            <p:cNvPr id="192" name="lap" descr=""/>
            <p:cNvPicPr/>
            <p:nvPr/>
          </p:nvPicPr>
          <p:blipFill>
            <a:blip r:embed="rId7"/>
            <a:stretch/>
          </p:blipFill>
          <p:spPr>
            <a:xfrm>
              <a:off x="5137200" y="1260360"/>
              <a:ext cx="103968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5356080" y="1422360"/>
              <a:ext cx="63648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207040" y="99072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е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251400" y="990720"/>
            <a:ext cx="1028880" cy="1277640"/>
            <a:chOff x="6251400" y="990720"/>
            <a:chExt cx="1028880" cy="1277640"/>
          </a:xfrm>
        </p:grpSpPr>
        <p:pic>
          <p:nvPicPr>
            <p:cNvPr id="196" name="lap" descr=""/>
            <p:cNvPicPr/>
            <p:nvPr/>
          </p:nvPicPr>
          <p:blipFill>
            <a:blip r:embed="rId9"/>
            <a:stretch/>
          </p:blipFill>
          <p:spPr>
            <a:xfrm>
              <a:off x="625140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0"/>
            <a:stretch/>
          </p:blipFill>
          <p:spPr>
            <a:xfrm>
              <a:off x="6443640" y="143496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257880" y="990720"/>
              <a:ext cx="958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46880" y="990720"/>
            <a:ext cx="1028880" cy="1277640"/>
            <a:chOff x="7346880" y="990720"/>
            <a:chExt cx="1028880" cy="1277640"/>
          </a:xfrm>
        </p:grpSpPr>
        <p:pic>
          <p:nvPicPr>
            <p:cNvPr id="200" name="lap" descr=""/>
            <p:cNvPicPr/>
            <p:nvPr/>
          </p:nvPicPr>
          <p:blipFill>
            <a:blip r:embed="rId11"/>
            <a:stretch/>
          </p:blipFill>
          <p:spPr>
            <a:xfrm>
              <a:off x="734688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7531200" y="144288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467480" y="99072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800600" y="3048120"/>
            <a:ext cx="903240" cy="10206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4648320"/>
            <a:ext cx="533520" cy="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4114800"/>
            <a:ext cx="83808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13160" y="4268160"/>
            <a:ext cx="721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Бэк- </a:t>
            </a:r>
            <a:br>
              <a:rPr sz="1600"/>
            </a:b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срок внедр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ая типовая конфигура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ые дополнительные шаблоны и объек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рафический конфигурато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держка распространенных СУБ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истрибуция конечных прилож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им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ее место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$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1000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$1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срок внедрения, сокращающий зат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существующего ПО и невысокие аппарат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й на рын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ункциона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ибкость и расширяем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иповая конфигу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мпонентная структу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ка результа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762120" y="1295280"/>
            <a:ext cx="7543800" cy="4556160"/>
            <a:chOff x="762120" y="1295280"/>
            <a:chExt cx="7543800" cy="4556160"/>
          </a:xfrm>
        </p:grpSpPr>
        <p:sp>
          <p:nvSpPr>
            <p:cNvPr id="223" name=""/>
            <p:cNvSpPr/>
            <p:nvPr/>
          </p:nvSpPr>
          <p:spPr>
            <a:xfrm>
              <a:off x="762120" y="1295280"/>
              <a:ext cx="7543800" cy="45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WSJ%20Prognostics1" descr=""/>
            <p:cNvPicPr/>
            <p:nvPr/>
          </p:nvPicPr>
          <p:blipFill>
            <a:blip r:embed="rId3"/>
            <a:srcRect l="6864" t="3231" r="7844" b="0"/>
            <a:stretch/>
          </p:blipFill>
          <p:spPr>
            <a:xfrm>
              <a:off x="1440720" y="1597680"/>
              <a:ext cx="5943960" cy="3921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5" name=""/>
          <p:cNvGraphicFramePr/>
          <p:nvPr/>
        </p:nvGraphicFramePr>
        <p:xfrm>
          <a:off x="3886200" y="2819520"/>
          <a:ext cx="12193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2819520"/>
                    <a:ext cx="1219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791320" y="2709720"/>
          <a:ext cx="1295280" cy="108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2709720"/>
                    <a:ext cx="129528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81080" y="2743200"/>
          <a:ext cx="116208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743200"/>
                    <a:ext cx="11620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209680" y="5272200"/>
          <a:ext cx="4381560" cy="199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5272200"/>
                    <a:ext cx="4381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партамент Интернет Реше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, Профсоюзная ул., 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95) 363-1111, (095) 363-1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solutions.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solutions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ей Коз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kozlov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 www.siebe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сылки возникнов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товара или услуги больше не могут самостоятельно завоевывать клиента. Конкуренция высока, а качество товаров примерно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остранение  мощных компьютерных технологий позволило вновь вернуться к персонификации при массовом обслужи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компании уже внедр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ст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конкурентная борьба заставляет и дальше искать пути повыш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ифры и фа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шая часть компаний из списк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tune 500 </a:t>
            </a:r>
            <a:br>
              <a:rPr sz="2200"/>
            </a:b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теряет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5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аждые 5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лечение нового клиента в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-7 раз дорож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чем удержание существующе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 удержания клиентов на 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вает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прибыль от 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до 1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0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омпании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убыточ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-за неэффективного взаимодействия с н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данным компани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год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тет доля лояльных клиентов, улучшается имидж компа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менее восприимчивы к ц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более склонны покупать дополнительные продукты и услуг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аются затраты на рекламу и привлечение, увеличивается процент удержания кли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 компаниям необходи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ания имеет много кли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с клиентом носит долгосроч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высокая конку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219320" y="3048120"/>
            <a:ext cx="3809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н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екоммун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30481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евозмож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ез специализированного программного обесп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и предо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ция продаж, сервиса и маркет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е каналов – персональные контакты, телефон,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рути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CRM </a:t>
            </a:r>
            <a:r>
              <a:rPr b="1" lang="ru-RU" sz="2100" spc="-1" strike="noStrike">
                <a:solidFill>
                  <a:srgbClr val="800000"/>
                </a:solidFill>
                <a:latin typeface="Arial"/>
              </a:rPr>
              <a:t>решения автоматизируют работу «фронт-офис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оставщик решени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создана в 1993 году, изначально занимается автоматизацией «фронт-офис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трудников,  обор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лр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0 офисов в 28 странах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ет 3 верс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редних комп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я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дер рын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00040" y="380880"/>
          <a:ext cx="7924680" cy="566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80880"/>
                    <a:ext cx="79246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406120" y="4648320"/>
            <a:ext cx="35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едние компан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сталляц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 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бочих ме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07:15:07Z</dcterms:created>
  <dc:creator>Shadow</dc:creator>
  <dc:description/>
  <dc:language>en-US</dc:language>
  <cp:lastModifiedBy>Mike Berezin</cp:lastModifiedBy>
  <dcterms:modified xsi:type="dcterms:W3CDTF">2001-10-26T12:04:39Z</dcterms:modified>
  <cp:revision>17</cp:revision>
  <dc:subject/>
  <dc:title>CRM решение: эффект, сроки, стоимость</dc:title>
</cp:coreProperties>
</file>